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B04DB-3BB0-46FC-B0FA-E542248E5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50676-ED86-422E-9D93-559EA1E64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CEF61-8C81-456E-A0DE-552C0E19A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B58D4-54D6-4B2F-B845-4E946A74E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44F4A-36DD-467E-8CBF-F29D95C15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20EFE-EAD3-430F-B12B-49266EDBF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1E875-64AA-4157-97EA-A4FCD9D44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CE1F6-98D8-4736-BE33-4618ECC35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245E4-3FA9-4728-8AF9-D5F8A76F9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958FD-A6A9-4EA6-81B0-FF278DEFD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307FA-F4F7-4A7B-A0FB-3B30A0E70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A38CE-D588-4097-954F-C1561FA11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DD114-56B8-4FB5-ABB6-7717D073B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AA2BE-8DA4-4E82-8294-620A594AC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DE7CE-A235-4283-8F8C-FC955CF85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434BA-725C-4428-9B90-48E244AD4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0BF56-F25A-4F38-85D9-33541BEB3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C5A01-51FF-44EB-847C-89E49FAAD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594D7-0BFD-43A9-85ED-76B0F377C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86154-E5B5-4E4E-BE89-3BBCD5090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3CC8F-8BBD-4BAE-8369-2091C209C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E6F7A-7215-4DA1-AA4A-3F3F39ACB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B1AFA-3509-4E7E-8073-DA358B975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2FD17-42E8-4BD7-947C-51C8104A6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eff0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eff0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eff0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eff0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eff0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131FE-F73D-43B5-96E4-E91005D22947}" type="datetime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59E7D-F611-46C0-9715-64F37CCC82A3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666633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eff0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eff0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eff0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eff0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eff0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eff0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DF1CD-47D1-41E2-B3B2-6CAA63F6EECF}" type="datetime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9137C-6201-48CB-95A9-5CB82CDDF366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ffcc00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33"/>
                </a:solidFill>
                <a:latin typeface="Arial"/>
              </a:rPr>
              <a:t>Virtual Design System</a:t>
            </a:r>
            <a:endParaRPr b="0" lang="en-US" sz="44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0574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i L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e Ri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6ABEC-BE29-4469-9F5C-D797A35061B8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436D46C6-ADD9-4DB2-B2B2-AC595FD44E8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666633"/>
                </a:solidFill>
                <a:latin typeface="Arial"/>
              </a:rPr>
              <a:t>Problem statements</a:t>
            </a: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62120" y="3581280"/>
            <a:ext cx="7619760" cy="533520"/>
          </a:xfrm>
          <a:prstGeom prst="flowChartAlternateProcess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4191120" y="3649680"/>
            <a:ext cx="533160" cy="388800"/>
            <a:chOff x="4191120" y="3649680"/>
            <a:chExt cx="533160" cy="388800"/>
          </a:xfrm>
        </p:grpSpPr>
        <p:sp>
          <p:nvSpPr>
            <p:cNvPr id="100" name=""/>
            <p:cNvSpPr/>
            <p:nvPr/>
          </p:nvSpPr>
          <p:spPr>
            <a:xfrm>
              <a:off x="4191120" y="3649680"/>
              <a:ext cx="533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191120" y="3657600"/>
              <a:ext cx="30456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7620120" y="3649680"/>
            <a:ext cx="533160" cy="388800"/>
            <a:chOff x="7620120" y="3649680"/>
            <a:chExt cx="533160" cy="388800"/>
          </a:xfrm>
        </p:grpSpPr>
        <p:sp>
          <p:nvSpPr>
            <p:cNvPr id="103" name=""/>
            <p:cNvSpPr/>
            <p:nvPr/>
          </p:nvSpPr>
          <p:spPr>
            <a:xfrm>
              <a:off x="7620120" y="3649680"/>
              <a:ext cx="533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620120" y="3657600"/>
              <a:ext cx="30456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"/>
          <p:cNvSpPr/>
          <p:nvPr/>
        </p:nvSpPr>
        <p:spPr>
          <a:xfrm>
            <a:off x="3048120" y="1752480"/>
            <a:ext cx="3047760" cy="1191240"/>
          </a:xfrm>
          <a:prstGeom prst="borderCallout2">
            <a:avLst>
              <a:gd name="adj1" fmla="val 18750"/>
              <a:gd name="adj2" fmla="val -8333"/>
              <a:gd name="adj3" fmla="val 9523"/>
              <a:gd name="adj4" fmla="val -44375"/>
              <a:gd name="adj5" fmla="val 156736"/>
              <a:gd name="adj6" fmla="val -635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esign Pha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connect between designers and end-users (care-giver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" y="4495680"/>
            <a:ext cx="3179880" cy="1465560"/>
          </a:xfrm>
          <a:prstGeom prst="borderCallout2">
            <a:avLst>
              <a:gd name="adj1" fmla="val 18750"/>
              <a:gd name="adj2" fmla="val -8333"/>
              <a:gd name="adj3" fmla="val 6532"/>
              <a:gd name="adj4" fmla="val 115078"/>
              <a:gd name="adj5" fmla="val -26912"/>
              <a:gd name="adj6" fmla="val 12819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Build Pha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to no way-finding training provided before move-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ck of process plann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114800" y="4876920"/>
            <a:ext cx="3505320" cy="1739880"/>
          </a:xfrm>
          <a:prstGeom prst="borderCallout2">
            <a:avLst>
              <a:gd name="adj1" fmla="val 18750"/>
              <a:gd name="adj2" fmla="val -8333"/>
              <a:gd name="adj3" fmla="val 6532"/>
              <a:gd name="adj4" fmla="val 104300"/>
              <a:gd name="adj5" fmla="val -49625"/>
              <a:gd name="adj6" fmla="val 10656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Occupancy Pha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ck of patient interaction outside of hospit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to no way-finding training provided before vis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990720" y="3657600"/>
            <a:ext cx="533160" cy="380880"/>
            <a:chOff x="990720" y="3657600"/>
            <a:chExt cx="533160" cy="380880"/>
          </a:xfrm>
        </p:grpSpPr>
        <p:sp>
          <p:nvSpPr>
            <p:cNvPr id="109" name=""/>
            <p:cNvSpPr/>
            <p:nvPr/>
          </p:nvSpPr>
          <p:spPr>
            <a:xfrm>
              <a:off x="990720" y="3657600"/>
              <a:ext cx="304560" cy="380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990720" y="3657600"/>
              <a:ext cx="533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4191120" y="3657600"/>
            <a:ext cx="533160" cy="380880"/>
            <a:chOff x="4191120" y="3657600"/>
            <a:chExt cx="533160" cy="380880"/>
          </a:xfrm>
        </p:grpSpPr>
        <p:sp>
          <p:nvSpPr>
            <p:cNvPr id="112" name=""/>
            <p:cNvSpPr/>
            <p:nvPr/>
          </p:nvSpPr>
          <p:spPr>
            <a:xfrm>
              <a:off x="4191120" y="3657600"/>
              <a:ext cx="304560" cy="380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191120" y="3657600"/>
              <a:ext cx="533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7620120" y="3657600"/>
            <a:ext cx="533160" cy="380880"/>
            <a:chOff x="7620120" y="3657600"/>
            <a:chExt cx="533160" cy="380880"/>
          </a:xfrm>
        </p:grpSpPr>
        <p:sp>
          <p:nvSpPr>
            <p:cNvPr id="115" name=""/>
            <p:cNvSpPr/>
            <p:nvPr/>
          </p:nvSpPr>
          <p:spPr>
            <a:xfrm>
              <a:off x="7620120" y="3657600"/>
              <a:ext cx="304560" cy="380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620120" y="3657600"/>
              <a:ext cx="533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9D242-3135-4E04-800E-5A1C30DED86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30B24A-E125-4850-9DD5-6BA70443671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2. Principles</a:t>
            </a: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57200" y="1600200"/>
            <a:ext cx="7786800" cy="38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 hospital design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cessib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all stakehol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 environmental information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st-effectivel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lexibil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 the design process. VDS seeks to create an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c virtual mock-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proposed layouts to allow in-depth analysi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acting in the scenarios of each room for each model will allow users to evaluate which design is optim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84415-3166-4116-B51D-D77D172D2240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44DD16-C9EA-4458-9339-CC357A0776A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666633"/>
                </a:solidFill>
                <a:latin typeface="Arial"/>
              </a:rPr>
              <a:t>3.Solutions</a:t>
            </a: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395280" y="1916280"/>
            <a:ext cx="1189080" cy="1687320"/>
          </a:xfrm>
          <a:prstGeom prst="rect">
            <a:avLst/>
          </a:prstGeom>
          <a:ln w="0">
            <a:noFill/>
          </a:ln>
          <a:effectLst>
            <a:outerShdw dist="179718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1820880" y="1924200"/>
            <a:ext cx="1173240" cy="1663560"/>
          </a:xfrm>
          <a:prstGeom prst="rect">
            <a:avLst/>
          </a:prstGeom>
          <a:ln w="0">
            <a:noFill/>
          </a:ln>
          <a:effectLst>
            <a:outerShdw dist="179718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3276720" y="1623960"/>
            <a:ext cx="2303280" cy="202104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4"/>
          <a:stretch/>
        </p:blipFill>
        <p:spPr>
          <a:xfrm>
            <a:off x="5867280" y="1609560"/>
            <a:ext cx="2301840" cy="202104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900000" y="3860640"/>
            <a:ext cx="2016360" cy="1398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ee16f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251503" dir="2700000" blurRad="0" rotWithShape="0">
              <a:srgbClr val="5f5f5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492360" y="3860640"/>
            <a:ext cx="1800360" cy="1470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ee16f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251503" dir="2700000" blurRad="0" rotWithShape="0">
              <a:srgbClr val="5f5f5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156360" y="3789360"/>
            <a:ext cx="1657440" cy="154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ee16f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251503" dir="2700000" blurRad="0" rotWithShape="0">
              <a:srgbClr val="5f5f5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044720" y="4292640"/>
            <a:ext cx="1871640" cy="77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1240" rIns="21240" tIns="10440" bIns="10440" anchor="t">
            <a:spAutoFit/>
          </a:bodyPr>
          <a:p>
            <a:pPr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663300"/>
                </a:solidFill>
                <a:latin typeface="Arial"/>
              </a:rPr>
              <a:t>Design team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provide design propos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637080" y="4148280"/>
            <a:ext cx="1819080" cy="10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1240" rIns="21240" tIns="10440" bIns="10440" anchor="t">
            <a:spAutoFit/>
          </a:bodyPr>
          <a:p>
            <a:pPr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663300"/>
                </a:solidFill>
                <a:latin typeface="Arial"/>
              </a:rPr>
              <a:t>Virtual design system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create an organic virtual mock-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229440" y="4148280"/>
            <a:ext cx="1439640" cy="95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1240" rIns="21240" tIns="10440" bIns="10440" anchor="t">
            <a:spAutoFit/>
          </a:bodyPr>
          <a:p>
            <a:pPr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663300"/>
                </a:solidFill>
                <a:latin typeface="Arial"/>
              </a:rPr>
              <a:t>End-user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evaluate designs based on interacting in scenari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16200000">
            <a:off x="2988360" y="4221720"/>
            <a:ext cx="466560" cy="716040"/>
          </a:xfrm>
          <a:prstGeom prst="downArrow">
            <a:avLst>
              <a:gd name="adj1" fmla="val 50000"/>
              <a:gd name="adj2" fmla="val 38368"/>
            </a:avLst>
          </a:prstGeom>
          <a:solidFill>
            <a:srgbClr val="eff0b2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5f5f5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>
            <a:stCxn id="125" idx="2"/>
            <a:endCxn id="127" idx="2"/>
          </p:cNvCxnSpPr>
          <p:nvPr/>
        </p:nvCxnSpPr>
        <p:spPr>
          <a:xfrm flipH="1" rot="16200000">
            <a:off x="4409640" y="2756160"/>
            <a:ext cx="72360" cy="5077800"/>
          </a:xfrm>
          <a:prstGeom prst="bentConnector3">
            <a:avLst>
              <a:gd name="adj1" fmla="val 1291000"/>
            </a:avLst>
          </a:prstGeom>
          <a:ln w="63360">
            <a:solidFill>
              <a:srgbClr val="ff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133" name=""/>
          <p:cNvSpPr/>
          <p:nvPr/>
        </p:nvSpPr>
        <p:spPr>
          <a:xfrm rot="16200000">
            <a:off x="5490360" y="4167720"/>
            <a:ext cx="466560" cy="716040"/>
          </a:xfrm>
          <a:prstGeom prst="downArrow">
            <a:avLst>
              <a:gd name="adj1" fmla="val 50000"/>
              <a:gd name="adj2" fmla="val 38368"/>
            </a:avLst>
          </a:prstGeom>
          <a:solidFill>
            <a:srgbClr val="eff0b2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5f5f5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484360" y="5518080"/>
            <a:ext cx="44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Feedback to design t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ED986-C9F8-4B03-A3F6-82054939D1AA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2B5FF8-E6D8-4D66-BD39-4C1E82FA71E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3T22:05:40Z</dcterms:created>
  <dc:creator>Lu, Yi</dc:creator>
  <dc:description/>
  <dc:language>en-US</dc:language>
  <cp:lastModifiedBy>Lu, Yi</cp:lastModifiedBy>
  <dcterms:modified xsi:type="dcterms:W3CDTF">2007-12-12T20:51:19Z</dcterms:modified>
  <cp:revision>6</cp:revision>
  <dc:subject/>
  <dc:title>Virtual Environment Team</dc:title>
</cp:coreProperties>
</file>